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gif" ContentType="image/gif"/>
  <Override PartName="/ppt/media/image49.jpeg" ContentType="image/jpeg"/>
  <Override PartName="/ppt/media/image20.jpeg" ContentType="image/jpeg"/>
  <Override PartName="/ppt/media/image24.png" ContentType="image/png"/>
  <Override PartName="/ppt/media/image31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gif" ContentType="image/gif"/>
  <Override PartName="/ppt/media/image50.jpeg" ContentType="image/jpeg"/>
  <Override PartName="/ppt/media/image28.jpeg" ContentType="image/jpeg"/>
  <Override PartName="/ppt/media/image27.gif" ContentType="image/gif"/>
  <Override PartName="/ppt/media/image15.gif" ContentType="image/gif"/>
  <Override PartName="/ppt/media/image5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46.gif" ContentType="image/gif"/>
  <Override PartName="/ppt/media/image32.jpeg" ContentType="image/jpeg"/>
  <Override PartName="/ppt/media/image26.jpeg" ContentType="image/jpeg"/>
  <Override PartName="/ppt/media/image33.gif" ContentType="image/gif"/>
  <Override PartName="/ppt/media/image34.jpeg" ContentType="image/jpeg"/>
  <Override PartName="/ppt/media/image44.gif" ContentType="image/gif"/>
  <Override PartName="/ppt/media/image38.gif" ContentType="image/gif"/>
  <Override PartName="/ppt/media/image13.gif" ContentType="image/gif"/>
  <Override PartName="/ppt/media/image40.png" ContentType="image/png"/>
  <Override PartName="/ppt/media/image42.gif" ContentType="image/gif"/>
  <Override PartName="/ppt/media/image43.jpeg" ContentType="image/jpeg"/>
  <Override PartName="/ppt/media/image45.jpeg" ContentType="image/jpeg"/>
  <Override PartName="/ppt/media/image30.jpeg" ContentType="image/jpeg"/>
  <Override PartName="/ppt/media/image47.jpeg" ContentType="image/jpeg"/>
  <Override PartName="/ppt/media/image51.gif" ContentType="image/gif"/>
  <Override PartName="/ppt/media/image12.jpeg" ContentType="image/jpeg"/>
  <Override PartName="/ppt/media/image16.jpeg" ContentType="image/jpeg"/>
  <Override PartName="/ppt/media/image9.gif" ContentType="image/gif"/>
  <Override PartName="/ppt/media/image39.jpeg" ContentType="image/jpeg"/>
  <Override PartName="/ppt/media/image8.jpeg" ContentType="image/jpeg"/>
  <Override PartName="/ppt/media/image7.gif" ContentType="image/gif"/>
  <Override PartName="/ppt/media/image52.jpeg" ContentType="image/jpeg"/>
  <Override PartName="/ppt/media/image48.gif" ContentType="image/gif"/>
  <Override PartName="/ppt/media/image11.gif" ContentType="image/gif"/>
  <Override PartName="/ppt/media/image36.gif" ContentType="image/gif"/>
  <Override PartName="/ppt/media/image6.gif" ContentType="image/gif"/>
  <Override PartName="/ppt/media/image29.gif" ContentType="image/gif"/>
  <Override PartName="/ppt/media/image4.gif" ContentType="image/gif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B7E-09E0-4DEA-B853-62879CAC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9EB-E79D-4956-AC12-BD4F552F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D13-8FE8-4E9C-AA32-54B141DA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1CA-ECA8-4D4B-A649-B6D3C8B9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2A17-895B-4252-99A9-A6C07657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14A9-401E-41EE-9193-45716D6B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62B5-79C9-4794-B05E-A8A0A395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2FB4-F773-487F-8F7F-D9A2120B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24B5-94DB-4938-BD17-E928D5EC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D8E2-490D-4F48-A262-BD7616FF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7767-EEE3-4659-96EF-BC946448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E76-86DD-426B-8792-4B9E2EC2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CBB5-BA69-4F2F-A6D5-EA6345E9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8018-0F25-4B63-BFB6-A2E77282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26A8-C0DB-46C0-B8E5-6F879C3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D868-3ABA-45E4-BC64-D54E13B7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DF9-47B7-48C8-92D5-B43A77AC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C1FE-BE58-4CA1-BF13-9B074EC2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A319-4818-4AE7-BFEB-75A8170A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557E-0CF2-4D7C-B01D-E82CA21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4E88-C998-4F77-B50B-E6408EC8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32C9-6648-4B18-8A99-22557EB6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53D-C288-4C24-9481-97914382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1254-38B3-46EC-8415-AA25C669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6938-1D08-4ABC-B2F4-74723DF9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2D52-3B12-42FE-9C9F-921BDCF6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DA88-A80E-49AF-AA78-EFC8D3CD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66FF-070C-42F2-9BE6-88850A0F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70AB7-3B38-4F7A-843C-1F2C63DA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96F3-55B2-46F4-A9D0-B4F7F1A0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B4DF-C37F-467E-A3F5-CFC94B28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DFD55-8E60-4B48-AB97-C11A474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6710-8C48-4080-9E47-EB897EFA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413-9951-4C67-AA72-EE31C12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B757-2A57-4314-854B-7E9B98DD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9519-B66D-4B83-8D8A-A2668C63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916E-C41F-40FB-9024-CB8869B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7778-6343-4A03-8F36-E06891A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B66F-5DF0-44FF-84BF-E93C32D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A328-E31D-4838-B473-DEA5DDD5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B7E29-742D-4022-8D12-9B7556B2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5B77-7CA8-4BD5-9530-2814750C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8447-5994-4CBA-AFFA-9D19FBA4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0ED-536A-40FF-8689-918BD5D6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414-A2AB-4E95-8AEE-4EC079DA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BAB-D794-44E9-A286-7A82800B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BC2-DAE8-458B-B035-6889E59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950-F681-4C60-8EF9-0A495898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3F7B-8337-434F-9245-AF68E25D4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55C8-BD20-4D6E-BE2D-29E465607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B4D7-D6A9-4541-A559-3DD2B6A50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0C98-9C13-48A3-9BE2-014965A02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hyperlink" Target="http://smiles.33b.ru/smile.104108.html" TargetMode="Externa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30802656701.mirtesen.ru/blog/43562159005/Istoriya-chasov" TargetMode="External"/><Relationship Id="rId3" Type="http://schemas.openxmlformats.org/officeDocument/2006/relationships/hyperlink" Target="http://s30802656701.mirtesen.ru/blog/43562159005/Istoriya-chasov" TargetMode="External"/><Relationship Id="rId4" Type="http://schemas.openxmlformats.org/officeDocument/2006/relationships/hyperlink" Target="http://s30802656701.mirtesen.ru/blog/43562159005/Istoriya-chasov" TargetMode="External"/><Relationship Id="rId5" Type="http://schemas.openxmlformats.org/officeDocument/2006/relationships/hyperlink" Target="http://s30802656701.mirtesen.ru/blog/43562159005/Istoriya-chasov" TargetMode="External"/><Relationship Id="rId6" Type="http://schemas.openxmlformats.org/officeDocument/2006/relationships/hyperlink" Target="http://s30802656701.mirtesen.ru/blog/43562159005/Istoriya-chasov" TargetMode="External"/><Relationship Id="rId7" Type="http://schemas.openxmlformats.org/officeDocument/2006/relationships/hyperlink" Target="http://is.park.ru/doc.jsp?urn=42351165" TargetMode="External"/><Relationship Id="rId8" Type="http://schemas.openxmlformats.org/officeDocument/2006/relationships/hyperlink" Target="http://is.park.ru/doc.jsp?urn=42351165" TargetMode="External"/><Relationship Id="rId9" Type="http://schemas.openxmlformats.org/officeDocument/2006/relationships/hyperlink" Target="http://is.park.ru/doc.jsp?urn=42351165" TargetMode="External"/><Relationship Id="rId10" Type="http://schemas.openxmlformats.org/officeDocument/2006/relationships/hyperlink" Target="http://is.park.ru/doc.jsp?urn=42351165" TargetMode="External"/><Relationship Id="rId11" Type="http://schemas.openxmlformats.org/officeDocument/2006/relationships/hyperlink" Target="http://astraproject.com.ua/services/section-9/58/" TargetMode="External"/><Relationship Id="rId12" Type="http://schemas.openxmlformats.org/officeDocument/2006/relationships/hyperlink" Target="http://astraproject.com.ua/services/section-9/58/" TargetMode="External"/><Relationship Id="rId13" Type="http://schemas.openxmlformats.org/officeDocument/2006/relationships/hyperlink" Target="http://astraproject.com.ua/services/section-9/58/" TargetMode="External"/><Relationship Id="rId14" Type="http://schemas.openxmlformats.org/officeDocument/2006/relationships/hyperlink" Target="http://astraproject.com.ua/services/section-9/58/" TargetMode="External"/><Relationship Id="rId15" Type="http://schemas.openxmlformats.org/officeDocument/2006/relationships/hyperlink" Target="http://astraproject.com.ua/services/section-9/58/" TargetMode="External"/><Relationship Id="rId16" Type="http://schemas.openxmlformats.org/officeDocument/2006/relationships/hyperlink" Target="http://astraproject.com.ua/services/section-9/58/" TargetMode="External"/><Relationship Id="rId17" Type="http://schemas.openxmlformats.org/officeDocument/2006/relationships/hyperlink" Target="http://all.ruslist.ru/ad_59043_47_false.html" TargetMode="External"/><Relationship Id="rId18" Type="http://schemas.openxmlformats.org/officeDocument/2006/relationships/hyperlink" Target="http://all.ruslist.ru/ad_59043_47_false.html" TargetMode="External"/><Relationship Id="rId19" Type="http://schemas.openxmlformats.org/officeDocument/2006/relationships/hyperlink" Target="http://all.ruslist.ru/ad_59043_47_false.html" TargetMode="External"/><Relationship Id="rId20" Type="http://schemas.openxmlformats.org/officeDocument/2006/relationships/hyperlink" Target="http://all.ruslist.ru/ad_59043_47_false.html" TargetMode="External"/><Relationship Id="rId21" Type="http://schemas.openxmlformats.org/officeDocument/2006/relationships/hyperlink" Target="http://tmbv.info/index.php?option=com_content&amp;view=frontpage&amp;Itemid=139&amp;limit=17&amp;month=10&amp;year=2011" TargetMode="External"/><Relationship Id="rId22" Type="http://schemas.openxmlformats.org/officeDocument/2006/relationships/hyperlink" Target="http://tmbv.info/index.php?option=com_content&amp;view=frontpage&amp;Itemid=139&amp;limit=17&amp;month=10&amp;year=2011" TargetMode="External"/><Relationship Id="rId23" Type="http://schemas.openxmlformats.org/officeDocument/2006/relationships/hyperlink" Target="http://www.zarechny.zato.ru/books/9.htm" TargetMode="External"/><Relationship Id="rId24" Type="http://schemas.openxmlformats.org/officeDocument/2006/relationships/hyperlink" Target="http://www.zarechny.zato.ru/books/9.htm" TargetMode="External"/><Relationship Id="rId25" Type="http://schemas.openxmlformats.org/officeDocument/2006/relationships/hyperlink" Target="http://www.zarechny.zato.ru/books/9.htm" TargetMode="External"/><Relationship Id="rId26" Type="http://schemas.openxmlformats.org/officeDocument/2006/relationships/hyperlink" Target="http://www.zarechny.zato.ru/books/9.htm" TargetMode="External"/><Relationship Id="rId27" Type="http://schemas.openxmlformats.org/officeDocument/2006/relationships/hyperlink" Target="http://www.zarechny.zato.ru/books/9.htm" TargetMode="External"/><Relationship Id="rId28" Type="http://schemas.openxmlformats.org/officeDocument/2006/relationships/hyperlink" Target="http://www.zarechny.zato.ru/books/9.htm" TargetMode="External"/><Relationship Id="rId29" Type="http://schemas.openxmlformats.org/officeDocument/2006/relationships/hyperlink" Target="http://vtgroup.com.ua/complex-offer/dlya-molokozavodov" TargetMode="External"/><Relationship Id="rId30" Type="http://schemas.openxmlformats.org/officeDocument/2006/relationships/hyperlink" Target="http://vtgroup.com.ua/complex-offer/dlya-molokozavodov" TargetMode="External"/><Relationship Id="rId31" Type="http://schemas.openxmlformats.org/officeDocument/2006/relationships/hyperlink" Target="http://vtgroup.com.ua/complex-offer/dlya-molokozavodov" TargetMode="External"/><Relationship Id="rId32" Type="http://schemas.openxmlformats.org/officeDocument/2006/relationships/hyperlink" Target="http://vtgroup.com.ua/complex-offer/dlya-molokozavodov" TargetMode="External"/><Relationship Id="rId33" Type="http://schemas.openxmlformats.org/officeDocument/2006/relationships/hyperlink" Target="http://vtgroup.com.ua/complex-offer/dlya-molokozavodov" TargetMode="External"/><Relationship Id="rId34" Type="http://schemas.openxmlformats.org/officeDocument/2006/relationships/hyperlink" Target="http://vtgroup.com.ua/complex-offer/dlya-molokozavodov" TargetMode="External"/><Relationship Id="rId35" Type="http://schemas.openxmlformats.org/officeDocument/2006/relationships/hyperlink" Target="http://vtgroup.com.ua/complex-offer/dlya-molokozavodov" TargetMode="External"/><Relationship Id="rId36" Type="http://schemas.openxmlformats.org/officeDocument/2006/relationships/hyperlink" Target="http://mariyampole.fis.ru/vacuum-packaging-equipment?page=6" TargetMode="External"/><Relationship Id="rId37" Type="http://schemas.openxmlformats.org/officeDocument/2006/relationships/hyperlink" Target="http://mariyampole.fis.ru/vacuum-packaging-equipment?page=6" TargetMode="External"/><Relationship Id="rId38" Type="http://schemas.openxmlformats.org/officeDocument/2006/relationships/hyperlink" Target="http://mariyampole.fis.ru/vacuum-packaging-equipment?page=6" TargetMode="External"/><Relationship Id="rId39" Type="http://schemas.openxmlformats.org/officeDocument/2006/relationships/hyperlink" Target="http://mariyampole.fis.ru/vacuum-packaging-equipment?page=6" TargetMode="External"/><Relationship Id="rId40" Type="http://schemas.openxmlformats.org/officeDocument/2006/relationships/hyperlink" Target="http://www.snews.ru/index.php?id=9889" TargetMode="External"/><Relationship Id="rId41" Type="http://schemas.openxmlformats.org/officeDocument/2006/relationships/hyperlink" Target="http://www.snews.ru/index.php?id=9889" TargetMode="External"/><Relationship Id="rId42" Type="http://schemas.openxmlformats.org/officeDocument/2006/relationships/hyperlink" Target="http://www.snews.ru/index.php?id=9889" TargetMode="External"/><Relationship Id="rId43" Type="http://schemas.openxmlformats.org/officeDocument/2006/relationships/hyperlink" Target="http://www.snews.ru/index.php?id=9889" TargetMode="External"/><Relationship Id="rId44" Type="http://schemas.openxmlformats.org/officeDocument/2006/relationships/hyperlink" Target="http://invest.astrobl.ru/ru/investment_strategy/list_jf_projekt/321" TargetMode="External"/><Relationship Id="rId45" Type="http://schemas.openxmlformats.org/officeDocument/2006/relationships/hyperlink" Target="http://invest.astrobl.ru/ru/investment_strategy/list_jf_projekt/321" TargetMode="External"/><Relationship Id="rId46" Type="http://schemas.openxmlformats.org/officeDocument/2006/relationships/hyperlink" Target="http://invest.astrobl.ru/ru/investment_strategy/list_jf_projekt/321" TargetMode="External"/><Relationship Id="rId47" Type="http://schemas.openxmlformats.org/officeDocument/2006/relationships/hyperlink" Target="http://invest.astrobl.ru/ru/investment_strategy/list_jf_projekt/321" TargetMode="External"/><Relationship Id="rId48" Type="http://schemas.openxmlformats.org/officeDocument/2006/relationships/hyperlink" Target="http://invest.astrobl.ru/ru/investment_strategy/list_jf_projekt/321" TargetMode="External"/><Relationship Id="rId49" Type="http://schemas.openxmlformats.org/officeDocument/2006/relationships/hyperlink" Target="http://invest.astrobl.ru/ru/investment_strategy/list_jf_projekt/321" TargetMode="External"/><Relationship Id="rId50" Type="http://schemas.openxmlformats.org/officeDocument/2006/relationships/hyperlink" Target="http://invest.astrobl.ru/ru/investment_strategy/list_jf_projekt/321" TargetMode="External"/><Relationship Id="rId51" Type="http://schemas.openxmlformats.org/officeDocument/2006/relationships/hyperlink" Target="http://invest.astrobl.ru/ru/investment_strategy/list_jf_projekt/321" TargetMode="External"/><Relationship Id="rId52" Type="http://schemas.openxmlformats.org/officeDocument/2006/relationships/hyperlink" Target="http://invest.astrobl.ru/ru/investment_strategy/list_jf_projekt/321" TargetMode="External"/><Relationship Id="rId53" Type="http://schemas.openxmlformats.org/officeDocument/2006/relationships/hyperlink" Target="http://invest.astrobl.ru/ru/investment_strategy/list_jf_projekt/321" TargetMode="External"/><Relationship Id="rId54" Type="http://schemas.openxmlformats.org/officeDocument/2006/relationships/hyperlink" Target="http://www.agroru.com/news/744545.htm" TargetMode="External"/><Relationship Id="rId55" Type="http://schemas.openxmlformats.org/officeDocument/2006/relationships/hyperlink" Target="http://www.agroru.com/news/744545.htm" TargetMode="External"/><Relationship Id="rId56" Type="http://schemas.openxmlformats.org/officeDocument/2006/relationships/hyperlink" Target="http://www.agroru.com/news/744545.htm" TargetMode="External"/><Relationship Id="rId57" Type="http://schemas.openxmlformats.org/officeDocument/2006/relationships/hyperlink" Target="http://www.agroru.com/news/744545.htm" TargetMode="External"/><Relationship Id="rId58" Type="http://schemas.openxmlformats.org/officeDocument/2006/relationships/hyperlink" Target="http://www.agroru.com/news/744545.htm" TargetMode="External"/><Relationship Id="rId59" Type="http://schemas.openxmlformats.org/officeDocument/2006/relationships/hyperlink" Target="http://www.agroru.com/news/744545.htm" TargetMode="External"/><Relationship Id="rId60" Type="http://schemas.openxmlformats.org/officeDocument/2006/relationships/hyperlink" Target="http://www.board.com.ua/m0109-1041878003-prodam-molokozavod.html%20&#1086;&#1073;&#1086;&#1088;&#1091;&#1076;&#1086;&#1074;&#1072;&#1085;&#1080;&#1077;1" TargetMode="External"/><Relationship Id="rId61" Type="http://schemas.openxmlformats.org/officeDocument/2006/relationships/hyperlink" Target="http://gazeta-zarya.ru/?p=499" TargetMode="External"/><Relationship Id="rId62" Type="http://schemas.openxmlformats.org/officeDocument/2006/relationships/hyperlink" Target="http://gazeta-zarya.ru/?p=499" TargetMode="External"/><Relationship Id="rId63" Type="http://schemas.openxmlformats.org/officeDocument/2006/relationships/hyperlink" Target="http://gazeta-zarya.ru/?p=499" TargetMode="External"/><Relationship Id="rId64" Type="http://schemas.openxmlformats.org/officeDocument/2006/relationships/hyperlink" Target="http://gazeta-zarya.ru/?p=499" TargetMode="External"/><Relationship Id="rId65" Type="http://schemas.openxmlformats.org/officeDocument/2006/relationships/hyperlink" Target="http://all.ruslist.ru/ad_61646_51_false.html" TargetMode="External"/><Relationship Id="rId66" Type="http://schemas.openxmlformats.org/officeDocument/2006/relationships/hyperlink" Target="http://all.ruslist.ru/ad_61646_51_false.html" TargetMode="External"/><Relationship Id="rId67" Type="http://schemas.openxmlformats.org/officeDocument/2006/relationships/hyperlink" Target="http://all.ruslist.ru/ad_61646_51_false.html" TargetMode="External"/><Relationship Id="rId68" Type="http://schemas.openxmlformats.org/officeDocument/2006/relationships/hyperlink" Target="http://all.ruslist.ru/ad_61646_51_false.html" TargetMode="External"/><Relationship Id="rId69" Type="http://schemas.openxmlformats.org/officeDocument/2006/relationships/hyperlink" Target="http://news.21.by/politics/2010/01/20/444588.html" TargetMode="External"/><Relationship Id="rId70" Type="http://schemas.openxmlformats.org/officeDocument/2006/relationships/hyperlink" Target="http://news.21.by/politics/2010/01/20/444588.html" TargetMode="External"/><Relationship Id="rId71" Type="http://schemas.openxmlformats.org/officeDocument/2006/relationships/hyperlink" Target="http://news.21.by/politics/2010/01/20/444588.html" TargetMode="External"/><Relationship Id="rId72" Type="http://schemas.openxmlformats.org/officeDocument/2006/relationships/hyperlink" Target="http://news.21.by/politics/2010/01/20/444588.html" TargetMode="External"/><Relationship Id="rId73" Type="http://schemas.openxmlformats.org/officeDocument/2006/relationships/hyperlink" Target="http://www.techincom.ru/prew_cat.htm?id=576&amp;id_cat=15&amp;id_rzd=18&amp;id_pd=952" TargetMode="External"/><Relationship Id="rId74" Type="http://schemas.openxmlformats.org/officeDocument/2006/relationships/hyperlink" Target="http://www.techincom.ru/prew_cat.htm?id=576&amp;id_cat=15&amp;id_rzd=18&amp;id_pd=952" TargetMode="External"/><Relationship Id="rId75" Type="http://schemas.openxmlformats.org/officeDocument/2006/relationships/hyperlink" Target="http://www.techincom.ru/prew_cat.htm?id=576&amp;id_cat=15&amp;id_rzd=18&amp;id_pd=952" TargetMode="External"/><Relationship Id="rId76" Type="http://schemas.openxmlformats.org/officeDocument/2006/relationships/hyperlink" Target="http://www.techincom.ru/prew_cat.htm?id=576&amp;id_cat=15&amp;id_rzd=18&amp;id_pd=952" TargetMode="External"/><Relationship Id="rId77" Type="http://schemas.openxmlformats.org/officeDocument/2006/relationships/hyperlink" Target="http://www.graycell.ru/word/%EC%EE%EB%EE%EA%EE%E2%EE%E7" TargetMode="External"/><Relationship Id="rId78" Type="http://schemas.openxmlformats.org/officeDocument/2006/relationships/hyperlink" Target="http://www.graycell.ru/word/%EC%EE%EB%EE%EA%EE%E2%EE%E7" TargetMode="External"/><Relationship Id="rId79" Type="http://schemas.openxmlformats.org/officeDocument/2006/relationships/hyperlink" Target="http://www.graycell.ru/word/%EC%EE%EB%EE%EA%EE%E2%EE%E7" TargetMode="External"/><Relationship Id="rId80" Type="http://schemas.openxmlformats.org/officeDocument/2006/relationships/hyperlink" Target="http://www.graycell.ru/word/%EC%EE%EB%EE%EA%EE%E2%EE%E7" TargetMode="External"/><Relationship Id="rId81" Type="http://schemas.openxmlformats.org/officeDocument/2006/relationships/hyperlink" Target="http://www.graycell.ru/word/%EC%EE%EB%EE%EA%EE%E2%EE%E7" TargetMode="External"/><Relationship Id="rId82" Type="http://schemas.openxmlformats.org/officeDocument/2006/relationships/hyperlink" Target="http://www.graycell.ru/word/%EC%EE%EB%EE%EA%EE%E2%EE%E7" TargetMode="External"/><Relationship Id="rId83" Type="http://schemas.openxmlformats.org/officeDocument/2006/relationships/hyperlink" Target="http://is.park.ru/print_doc.jsp?urn=40515631" TargetMode="External"/><Relationship Id="rId84" Type="http://schemas.openxmlformats.org/officeDocument/2006/relationships/hyperlink" Target="http://is.park.ru/print_doc.jsp?urn=40515631" TargetMode="External"/><Relationship Id="rId85" Type="http://schemas.openxmlformats.org/officeDocument/2006/relationships/hyperlink" Target="http://is.park.ru/print_doc.jsp?urn=40515631" TargetMode="External"/><Relationship Id="rId86" Type="http://schemas.openxmlformats.org/officeDocument/2006/relationships/hyperlink" Target="http://is.park.ru/print_doc.jsp?urn=40515631" TargetMode="External"/><Relationship Id="rId87" Type="http://schemas.openxmlformats.org/officeDocument/2006/relationships/hyperlink" Target="http://www.eco-kovcheg.ru/gallery17.html" TargetMode="External"/><Relationship Id="rId88" Type="http://schemas.openxmlformats.org/officeDocument/2006/relationships/hyperlink" Target="http://www.eco-kovcheg.ru/gallery17.html" TargetMode="External"/><Relationship Id="rId89" Type="http://schemas.openxmlformats.org/officeDocument/2006/relationships/hyperlink" Target="http://www.eco-kovcheg.ru/gallery17.html" TargetMode="External"/><Relationship Id="rId90" Type="http://schemas.openxmlformats.org/officeDocument/2006/relationships/hyperlink" Target="http://www.eco-kovcheg.ru/gallery17.html" TargetMode="External"/><Relationship Id="rId91" Type="http://schemas.openxmlformats.org/officeDocument/2006/relationships/hyperlink" Target="http://photos.privet.ru/user/Caridad/photo/354223522" TargetMode="External"/><Relationship Id="rId92" Type="http://schemas.openxmlformats.org/officeDocument/2006/relationships/hyperlink" Target="http://photos.privet.ru/user/Caridad/photo/354223522" TargetMode="External"/><Relationship Id="rId93" Type="http://schemas.openxmlformats.org/officeDocument/2006/relationships/hyperlink" Target="http://photos.privet.ru/user/Caridad/photo/354223522" TargetMode="External"/><Relationship Id="rId94" Type="http://schemas.openxmlformats.org/officeDocument/2006/relationships/hyperlink" Target="http://photos.privet.ru/user/Caridad/photo/354223522" TargetMode="External"/><Relationship Id="rId95" Type="http://schemas.openxmlformats.org/officeDocument/2006/relationships/hyperlink" Target="http://photos.privet.ru/user/Caridad/photo/354223522" TargetMode="External"/><Relationship Id="rId96" Type="http://schemas.openxmlformats.org/officeDocument/2006/relationships/hyperlink" Target="http://photos.privet.ru/user/Caridad/photo/354223522" TargetMode="External"/><Relationship Id="rId97" Type="http://schemas.openxmlformats.org/officeDocument/2006/relationships/hyperlink" Target="http://photos.privet.ru/user/Caridad/photo/354223522" TargetMode="External"/><Relationship Id="rId98" Type="http://schemas.openxmlformats.org/officeDocument/2006/relationships/hyperlink" Target="http://photos.privet.ru/user/Caridad/photo/354223522" TargetMode="External"/><Relationship Id="rId99" Type="http://schemas.openxmlformats.org/officeDocument/2006/relationships/hyperlink" Target="http://photos.privet.ru/user/Caridad/photo/354223522" TargetMode="External"/><Relationship Id="rId100" Type="http://schemas.openxmlformats.org/officeDocument/2006/relationships/hyperlink" Target="http://photos.privet.ru/user/Caridad/photo/354223522" TargetMode="External"/><Relationship Id="rId101" Type="http://schemas.openxmlformats.org/officeDocument/2006/relationships/hyperlink" Target="http://www.produkt.by/News/show/3227" TargetMode="External"/><Relationship Id="rId102" Type="http://schemas.openxmlformats.org/officeDocument/2006/relationships/hyperlink" Target="http://www.produkt.by/News/show/3227" TargetMode="External"/><Relationship Id="rId103" Type="http://schemas.openxmlformats.org/officeDocument/2006/relationships/hyperlink" Target="http://www.produkt.by/News/show/3227" TargetMode="External"/><Relationship Id="rId104" Type="http://schemas.openxmlformats.org/officeDocument/2006/relationships/hyperlink" Target="http://www.produkt.by/News/show/3227" TargetMode="External"/><Relationship Id="rId105" Type="http://schemas.openxmlformats.org/officeDocument/2006/relationships/hyperlink" Target="http://www.produkt.by/News/show/3227" TargetMode="External"/><Relationship Id="rId106" Type="http://schemas.openxmlformats.org/officeDocument/2006/relationships/hyperlink" Target="http://www.produkt.by/News/show/3227" TargetMode="External"/><Relationship Id="rId107" Type="http://schemas.openxmlformats.org/officeDocument/2006/relationships/hyperlink" Target="http://www.produkt.by/News/show/3227" TargetMode="External"/><Relationship Id="rId108" Type="http://schemas.openxmlformats.org/officeDocument/2006/relationships/hyperlink" Target="http://www.produkt.by/News/show/3227" TargetMode="External"/><Relationship Id="rId109" Type="http://schemas.openxmlformats.org/officeDocument/2006/relationships/image" Target="../media/image13.gif"/><Relationship Id="rId110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smiles.33b.ru/smile.104108.html" TargetMode="Externa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2130120"/>
            <a:ext cx="7488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Imprint MT Shadow"/>
              </a:rPr>
              <a:t>Откуда</a:t>
            </a:r>
            <a:r>
              <a:rPr b="1" i="1" lang="ru-RU" sz="4000" spc="-1" strike="noStrike">
                <a:solidFill>
                  <a:srgbClr val="000000"/>
                </a:solidFill>
                <a:latin typeface="Imprint MT Shadow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Imprint MT Shadow"/>
              </a:rPr>
              <a:t>молоко</a:t>
            </a:r>
            <a:r>
              <a:rPr b="1" i="1" lang="ru-RU" sz="4000" spc="-1" strike="noStrike">
                <a:solidFill>
                  <a:srgbClr val="000000"/>
                </a:solidFill>
                <a:latin typeface="Imprint MT Shadow"/>
              </a:rPr>
              <a:t> </a:t>
            </a:r>
            <a:r>
              <a:rPr b="1" i="1" lang="ru-RU" sz="4000" spc="-1" strike="noStrike">
                <a:solidFill>
                  <a:srgbClr val="d60093"/>
                </a:solidFill>
                <a:latin typeface="Imprint MT Shadow"/>
              </a:rPr>
              <a:t>в магазине?</a:t>
            </a:r>
            <a:br>
              <a:rPr sz="28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ополнительный материал для ознакомления с окружающим ми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284720" y="5105520"/>
            <a:ext cx="4859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Станкова Наталия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 начальных классов МОУ «Беляниц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нковского района Твер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98000" y="186840"/>
            <a:ext cx="729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имой и летом, в любую пог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но утром и вечером приходят дояр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тобы подоить своих бурёнок – так ласк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зывают они к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145728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26920" y="186840"/>
            <a:ext cx="749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ньше коров доили руками, а теперь учё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идумали специальные доильные аппар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рёнушки любят ласку и не жалеют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людей парного молоч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5627520" cy="4254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258840"/>
            <a:ext cx="82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доенное молоко сливают в специальные бид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 в бочки машин – молоковоз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6221520" cy="3693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917720" cy="172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080" y="258840"/>
            <a:ext cx="76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 таких машинах ты всегда увидишь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«МОЛОК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5406840" cy="5407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971640" y="2349360"/>
            <a:ext cx="1655640" cy="134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185760"/>
            <a:ext cx="801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офера привозят это молоко на молокозав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 с помощью специальных шлангов моло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ливают в огромные ванны, там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инимают приёмщики молока, они взвеш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локо и под давлением по трубам перегон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танки (танки – это такие огромные ёмк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хожие на перевёрнутые цистерн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5905800" cy="3784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1297080" cy="105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каждом танке поддерживается определё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емпература (как в термосе), чтобы молоко не прок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6189480" cy="4022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1420560" cy="142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-2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о прежде, чем перегнать молоко в та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иходят лаборанты и берут немножко мол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 анализы и с помощью микроскоп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центробежных и других приборов определяют жирность, качество молока и следят, чтобы в нём не было опасных для человека микр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5576760" cy="4226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042920" y="2924280"/>
            <a:ext cx="1441440" cy="120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186480"/>
            <a:ext cx="835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ддерживать нужную температуру в цех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могают операторы котельных и компрессо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становок. Операторы котельных установ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чают за тепло, а операторы компрессо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становок отвечают за холо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771640" y="213372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55640" y="2637000"/>
            <a:ext cx="1440000" cy="123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200" y="1234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веренное молоко стерилизуют при определё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емпературе, за которой следят ум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 датчиками и самописц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484360" y="2408400"/>
            <a:ext cx="6507360" cy="4240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39640" y="2565360"/>
            <a:ext cx="1511280" cy="107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80360" y="123480"/>
            <a:ext cx="86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терилизованное молоко попадает в следующий ц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де из него делают сливки с помощью специа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стройств - сепар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rcRect l="0" t="0" r="0" b="14537"/>
          <a:stretch/>
        </p:blipFill>
        <p:spPr>
          <a:xfrm>
            <a:off x="2843280" y="2708280"/>
            <a:ext cx="6059520" cy="3846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1511280" cy="145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92000" y="187560"/>
            <a:ext cx="55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се знают, что коровы дают 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кусное парное мо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843280" y="1268280"/>
            <a:ext cx="3587760" cy="5381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877080" y="2060640"/>
            <a:ext cx="1822320" cy="146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3640" y="186480"/>
            <a:ext cx="767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локо пропускают через сепаратор, и сли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 трубам перетекают в следующий ц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 обезжиренное молоко, которое наз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брат (им поят животных) перелив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ругие ём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5715000" cy="4305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12970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77040"/>
            <a:ext cx="76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з сливок в следующем цехе делают мас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ля этого есть специальные приспособ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хожие на центрифугу, которая вращается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громной скоростью и взбивает мас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708360" y="1916280"/>
            <a:ext cx="3840120" cy="4471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258920" y="2637000"/>
            <a:ext cx="1125360" cy="95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8200" y="186480"/>
            <a:ext cx="786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ля приготовления кисломолочных продук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еобходима заквасочная, это такое небольш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мещение, где стоят термостаты и в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ращивают специальные грибки для кефи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метаны, творога и йогур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340000" y="2903400"/>
            <a:ext cx="6651720" cy="3735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1901880" cy="172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126360" y="185760"/>
            <a:ext cx="927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асть молока и сливок перегоняют в танки-термос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фасовочный цех, где молоко с помощью специа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асовочных аппаратов взвешивается и разл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 пакетам и тетрапакам, упаковщица расклад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локо по ящикам, и по транспортеру ящики с моло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дукцией попадают на склад готовой продукц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царство вечн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635280" y="2851200"/>
            <a:ext cx="4977000" cy="4006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826920" y="2924280"/>
            <a:ext cx="1872000" cy="187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48040" y="187200"/>
            <a:ext cx="84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асть молока перегоняют по трубам в творож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цех, где в термостатах делают сметану, 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громных ваннах делают творог и сыворотк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03640" y="2060640"/>
            <a:ext cx="5414760" cy="4394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4200" y="187200"/>
            <a:ext cx="84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ля производства мороженого нужны специ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розильные аппараты, компрессор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асовочные у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4076640" cy="5300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1844640"/>
            <a:ext cx="151308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73120" y="186840"/>
            <a:ext cx="629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се молочные продукты со скла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отовой продукции грузчики грузя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ашины, а экспедиторы развозят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 магази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56000" y="1844640"/>
            <a:ext cx="5968800" cy="4773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1657080" cy="134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48400" y="475200"/>
            <a:ext cx="87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еперь ты точно знаешь – откуда молоко в магаз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6372000" cy="4780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1511280" cy="135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98360" y="208080"/>
            <a:ext cx="16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26200" y="601560"/>
            <a:ext cx="65696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"/>
              </a:rPr>
              <a:t>://s30802656701.mirtesen.ru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"/>
              </a:rPr>
              <a:t>blog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"/>
              </a:rPr>
              <a:t>/43562159005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6"/>
              </a:rPr>
              <a:t>Istoriya-chaso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9"/>
              </a:rPr>
              <a:t>is.park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0"/>
              </a:rPr>
              <a:t>/doc.jsp?urn=4235116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и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3"/>
              </a:rPr>
              <a:t>astraproject.com.ua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5"/>
              </a:rPr>
              <a:t>services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6"/>
              </a:rPr>
              <a:t>/section-9/58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орудование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19"/>
              </a:rPr>
              <a:t>all.ruslist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0"/>
              </a:rPr>
              <a:t>/ad_59043_47_fals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оборудование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1"/>
              </a:rPr>
              <a:t>http://tmbv.info/index.php?option=com_content&amp;view=frontpage&amp;Itemid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2"/>
              </a:rPr>
              <a:t>139&amp;limit=17&amp;month=10&amp;year=20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молоко в пак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5"/>
              </a:rPr>
              <a:t>www.zarechny.zato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7"/>
              </a:rPr>
              <a:t>books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8"/>
              </a:rPr>
              <a:t>/9.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пак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1"/>
              </a:rPr>
              <a:t>vtgroup.com.ua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3"/>
              </a:rPr>
              <a:t>complex-offer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5"/>
              </a:rPr>
              <a:t>dlya-molokozavodo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6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7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8"/>
              </a:rPr>
              <a:t>mariyampole.fis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39"/>
              </a:rPr>
              <a:t>/vacuum-packaging-equipment?page=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слоб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0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1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2"/>
              </a:rPr>
              <a:t>www.snews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3"/>
              </a:rPr>
              <a:t>/index.php?id=988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орудование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4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5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6"/>
              </a:rPr>
              <a:t>invest.astrobl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8"/>
              </a:rPr>
              <a:t>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0"/>
              </a:rPr>
              <a:t>investment_strategy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2"/>
              </a:rPr>
              <a:t>list_jf_projekt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3"/>
              </a:rPr>
              <a:t>/32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пар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6"/>
              </a:rPr>
              <a:t>www.agroru.com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7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8"/>
              </a:rPr>
              <a:t>news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59"/>
              </a:rPr>
              <a:t>/744545.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hlinkClick r:id="rId60"/>
              </a:rPr>
              <a:t>http://www.board.com.ua/m0109-1041878003-prodam-molokozavod.html оборудование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1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2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3"/>
              </a:rPr>
              <a:t>gazeta-zarya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4"/>
              </a:rPr>
              <a:t>/?p=49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лабор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5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6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7"/>
              </a:rPr>
              <a:t>all.ruslist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8"/>
              </a:rPr>
              <a:t>/ad_61646_51_fals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та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69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0"/>
              </a:rPr>
              <a:t>://news.21.by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1"/>
              </a:rPr>
              <a:t>politics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2"/>
              </a:rPr>
              <a:t>/2010/01/20/444588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привоз мол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3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4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5"/>
              </a:rPr>
              <a:t>www.techincom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6"/>
              </a:rPr>
              <a:t>/prew_cat.htm?id=576&amp;id_cat=15&amp;id_rzd=18&amp;id_pd=95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локовоз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7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8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79"/>
              </a:rPr>
              <a:t>www.graycell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0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1"/>
              </a:rPr>
              <a:t>word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2"/>
              </a:rPr>
              <a:t>/%EC%EE%EB%EE%EA%EE%E2%EE%E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молоков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3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4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5"/>
              </a:rPr>
              <a:t>is.park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6"/>
              </a:rPr>
              <a:t>/print_doc.jsp?urn=4051563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корова с проду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7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8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89"/>
              </a:rPr>
              <a:t>www.eco-kovcheg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0"/>
              </a:rPr>
              <a:t>/gallery17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ласково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hrisal.com.ua/articles?page=2 д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1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2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3"/>
              </a:rPr>
              <a:t>photos.privet.ru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4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5"/>
              </a:rPr>
              <a:t>user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6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7"/>
              </a:rPr>
              <a:t>Caridad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8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99"/>
              </a:rPr>
              <a:t>photo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0"/>
              </a:rPr>
              <a:t>/3542235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на пастб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1"/>
              </a:rPr>
              <a:t>http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2"/>
              </a:rPr>
              <a:t>:/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3"/>
              </a:rPr>
              <a:t>www.produkt.by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4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5"/>
              </a:rPr>
              <a:t>News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6"/>
              </a:rPr>
              <a:t>/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7"/>
              </a:rPr>
              <a:t>show</a:t>
            </a:r>
            <a:r>
              <a:rPr b="0" lang="ru-RU" sz="1200" spc="-1" strike="noStrike" u="sng">
                <a:solidFill>
                  <a:srgbClr val="734c00"/>
                </a:solidFill>
                <a:uFillTx/>
                <a:latin typeface="Arial"/>
                <a:ea typeface="Times New Roman"/>
                <a:hlinkClick r:id="rId108"/>
              </a:rPr>
              <a:t>/322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на фе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ru.wikipedia.org/wiki/%D0%AD%D0%BA%D0%BE%D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D%D0%BE%D0%BC%D0%B8%D0%BA%D0%B0_%D0%9A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0%B2%D0%B5%D0%B1%D0%B5%D0%BA%D0%B0  ферма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ovosh.agroru.com/news/read/727997.htm  прила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mymedical.ru/statyi/eto-celebnoe-moloko-i-molochnye 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allo-spb.com/  молоко в кувш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ovoteka.ru/r/Economics.Home.Food?lastdate=/2010-02-1  пак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ifportal.ru/142_2.html  - анимационные карт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09"/>
          <a:stretch/>
        </p:blipFill>
        <p:spPr>
          <a:xfrm>
            <a:off x="468360" y="1700280"/>
            <a:ext cx="1584360" cy="135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98764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Станкова Наталия Валентин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начальных классов МОУ «Беляниц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нковского района Твер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1_0reuSvLb"/>
          <p:cNvPicPr/>
          <p:nvPr/>
        </p:nvPicPr>
        <p:blipFill>
          <a:blip r:embed="rId2"/>
          <a:stretch/>
        </p:blipFill>
        <p:spPr>
          <a:xfrm>
            <a:off x="3564000" y="2565360"/>
            <a:ext cx="2805120" cy="18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32000" y="187560"/>
            <a:ext cx="64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 откуда оно появляется на прилав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ших магазинов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5621400" cy="434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1296720" cy="1077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8172360" y="5877000"/>
            <a:ext cx="752400" cy="79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2880" y="260280"/>
            <a:ext cx="92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де делают масло, сметану, творог? Ну, конечно же,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же догадался, дружок – такие продукты делаю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лочных заводах или как их наз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-другому – на молокозавода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11811" t="0" r="11811" b="0"/>
          <a:stretch/>
        </p:blipFill>
        <p:spPr>
          <a:xfrm>
            <a:off x="3228840" y="1916280"/>
            <a:ext cx="4813560" cy="4725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116000" y="2205000"/>
            <a:ext cx="145728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125640" y="-2880"/>
            <a:ext cx="926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 сегодня наше путешествие будет на один из та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локозаводов, где не только упаковывают моло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 пакетам и тетрапакам (тетрапак – это специ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ртонные коробочки для упаковки моло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дуктов и соков), но и делают оч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кусное мороже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6023160" cy="403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2708280"/>
            <a:ext cx="147780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1680" y="258840"/>
            <a:ext cx="81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ежде, чем появиться на прилавках магаз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локо проходит очень длинный пу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6475320" cy="4856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9640" y="2565360"/>
            <a:ext cx="1152720" cy="98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6760" y="18720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оровы живут в коровниках на молочных фер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ботники фермы хорошо ухаж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а своими питомц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6372360" cy="477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1407960" cy="151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7440" y="186840"/>
            <a:ext cx="614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Летом пастухи пасут коров на луг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де много вкусной и сочной тра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з речек коровы пьют прохладн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тую в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6191280" cy="4124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1211400" cy="13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67320" y="187560"/>
            <a:ext cx="70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имой коров кормят сеном и комбикорм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ят водой, чистят коров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454120" y="2133720"/>
            <a:ext cx="6689880" cy="4481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1224000" cy="105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1:59:17Z</dcterms:created>
  <dc:creator>техносила</dc:creator>
  <dc:description/>
  <dc:language>en-US</dc:language>
  <cp:lastModifiedBy>техносила</cp:lastModifiedBy>
  <dcterms:modified xsi:type="dcterms:W3CDTF">2012-01-09T15:21:03Z</dcterms:modified>
  <cp:revision>2</cp:revision>
  <dc:subject/>
  <dc:title>Слайд 1</dc:title>
</cp:coreProperties>
</file>